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5627-4F2F-4567-8588-35041BBC4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0A91-E80D-4CD8-8E63-C8892741F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9DF0-1425-470A-8F98-EC70D05D1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2108-DF6F-4093-AAD4-D58075186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75C8-F976-4791-B0F2-0A1A7D0CC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AD02-3AF8-4689-BEDF-4BA49C592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1D39-160A-4668-96A0-7E7197955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5F36-39BF-49B8-8357-6F94A37BA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E1FD-81B1-428B-9F19-266F3AE82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0BD5-7DDC-4919-BFC5-DE535A325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CB07-3676-48D0-8D1E-95C27F666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5992-2A17-4775-8069-282E4AC0E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70CF-A877-4DA8-8D5F-0DC585674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F59E-2C6E-40DC-ABE0-51E68F7D3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EFE1-EB8A-4998-BD7F-E824128B6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4002-2B7F-4164-8117-001BE38CE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2B36-1A51-4552-9F07-2BBACAB74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1E19-C948-4FFB-AC2C-84B86B128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601F-41EE-4205-B9FE-5FB32D41F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791B-09C1-417F-BC52-399F9DFA7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BE06-AD9A-4464-B11A-B7A68EB5E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25AB-2732-4B84-ACD3-D6281CCF5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26AD-2BDA-4ED2-A9FF-07AA5912F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6575-5022-44AF-97E7-CB1992FB5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6DEE-601D-472D-92A0-AEEC81A27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F0BA-0E08-49FD-90C9-4D25E8696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CF3F-4583-4D10-8E0E-97EF6B347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3065-1A3E-4557-B19D-FFA92F1D1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3BB7-E5EA-4AF6-9398-65BECDECD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9005-7B27-459B-8DF2-3B3625A17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67C3-1361-437E-B1BD-0E052929A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BEBC-CA5E-4DCB-B43D-0343E2185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5D74D-42A5-43B1-A2E6-9D3E3B2F0B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B5EE7-F330-4E80-B755-9EC548746C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5FB9C-0431-43E5-8077-46912FDB31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CE104-0CDC-44D9-A8D7-E37647B81C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031E-2DB5-4522-9C06-D46CB96A04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F522-5366-48F5-80DE-3AED29E9CD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C8F0-7C26-4F6B-B8EC-EEA6CF2B5D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AFBD-7F66-4465-A98F-9BB1CC710B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EF2C-84C2-4509-9750-4834DB040B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8736-7A3E-4206-B030-92BE4D9A23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03D4-309D-40DB-B2EA-97D015C5C4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9561A-4E62-4408-A2B5-62513B4388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57B6-0843-46FE-9264-F490783F3C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7F45-A93D-4C95-AB6A-3F17832D07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2AA0-0652-46B9-92B6-4C3D10647E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D8B2-DD26-4B77-9847-E633816093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A5B1-E44A-4D2D-BC62-9A77AACE15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DD256-4356-40F7-9452-09C1DFFEEA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4B24E-5DB0-4C16-A4F2-6F5DC25BB4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525B0-B51F-422C-8022-7464D4B45A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35A3B-B4C9-4BFA-9CDD-ABC559A98B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684B2-6D85-4021-9AF7-838EFB3051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29732-FBCC-4A50-8F4E-90C7C2CD90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871ED-542B-4CDD-8C05-0C6124EBD6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369C-6A5F-4518-B343-A0C0E42351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238C-BEAC-402E-B625-7F608021B6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C9EE-4B72-4F0F-B24C-EF14FA522D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Contrôle de qualité des tests de sensibilité antimicrob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4DC9-E747-48A5-BD26-BBA20B6D84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élection d’une colonie à tes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5D4E-AF03-480E-A942-4D4BE854DBF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7426-AA1F-4C18-A497-019C5FD7E8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cFarland 0.5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juster la suspension bactér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1CD5-2859-4606-9F7D-EEAF2A6C489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9F5F-A290-41D5-89AD-122E8428F1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8FC7-4401-4811-B8D3-32C0B1CDA655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Utiliser des distributeurs de disqu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vant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atiques, rapi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ugmentent la reproducti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isqu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minuent les capacités personnelles de ju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64C1-3CF7-4D8A-99B9-82918CC6A8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46AD-D9CF-41D8-895B-F6AF745F23F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avec l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196" name="ZoneTexte 7"/>
          <p:cNvSpPr/>
          <p:nvPr/>
        </p:nvSpPr>
        <p:spPr>
          <a:xfrm>
            <a:off x="685800" y="5334120"/>
            <a:ext cx="30481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oneTexte 8"/>
          <p:cNvSpPr/>
          <p:nvPr/>
        </p:nvSpPr>
        <p:spPr>
          <a:xfrm>
            <a:off x="5105520" y="5334120"/>
            <a:ext cx="365760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Inoculum trop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22AC-DDC7-4FB3-BB0A-7F35E0E721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avec l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01" name="Picture 5" descr="Disk moved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4981320"/>
          </a:xfrm>
          <a:prstGeom prst="rect">
            <a:avLst/>
          </a:prstGeom>
          <a:ln w="0">
            <a:noFill/>
          </a:ln>
        </p:spPr>
      </p:pic>
      <p:sp>
        <p:nvSpPr>
          <p:cNvPr id="202" name="ZoneTexte 5"/>
          <p:cNvSpPr/>
          <p:nvPr/>
        </p:nvSpPr>
        <p:spPr>
          <a:xfrm>
            <a:off x="685800" y="5373720"/>
            <a:ext cx="30481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oneTexte 6"/>
          <p:cNvSpPr/>
          <p:nvPr/>
        </p:nvSpPr>
        <p:spPr>
          <a:xfrm>
            <a:off x="5638680" y="5400720"/>
            <a:ext cx="304812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Zones non régulière car le disque n’a pas été appliqué correc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C8F4-E31D-4DE6-8C70-B989D0A020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524A-D720-44AD-93AF-7FF944B24CC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ur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09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8"/>
          <p:cNvSpPr/>
          <p:nvPr/>
        </p:nvSpPr>
        <p:spPr>
          <a:xfrm>
            <a:off x="6522480" y="4038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è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809000" y="41148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ied à couli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04920" y="4572000"/>
            <a:ext cx="8458200" cy="19051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cture avec une lumière suffisante et à l’arrière 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boî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zone lue est spécifique à un médica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ne loupe peut a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millimètres comp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B9E5-6C24-4BD9-8AB6-935D222F69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test – méthode par gradient de concent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535D-11CB-4D23-8565-F8628BADFA6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Espace réservé du pied de page 3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7D90-30D7-4375-AF17-538FC46F06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s résultats peuvent être incorrects si 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organisme n’a pas été bien identifi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rreur de transcrip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oix inapproprié d’antibiot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échantillon testé du patient n’était pas le b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nalyse demandée n’était pas la bon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échantillon n’a pas été conservé correct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174D-D5DC-4B2C-B4F2-4DF9E16D49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C16C-0033-4335-8531-AC9EA50FFB79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5640" y="4568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ests de sensibilité antimicrob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6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1"/>
          <p:cNvSpPr/>
          <p:nvPr/>
        </p:nvSpPr>
        <p:spPr>
          <a:xfrm>
            <a:off x="174240" y="4114800"/>
            <a:ext cx="700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urnissent des information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our sélectionner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ntibiothérapie appropr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pied de page 3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E02C-49D2-4EAF-99B3-6B0739B6CE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s d’interpré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éthode des disq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urnit des résultats qualitatifs interprétables : sensibles, intermédiaires et résista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icrodilution et diffusion en agar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fournissent un résultat quantitatif, une concentration minimum inhibitr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B657-1D4C-4299-A6E3-97B62DFDF3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éth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6"/>
          <p:cNvSpPr/>
          <p:nvPr/>
        </p:nvSpPr>
        <p:spPr>
          <a:xfrm>
            <a:off x="5029200" y="1752480"/>
            <a:ext cx="3886200" cy="179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s tests de sensibilité déterminent si la bactérie peut être inhibée par un antibiotiq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a susceptibilité est basée sur la concentration requise pour réduire la pousse sous le niveau visible (voir CIM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8"/>
          <p:cNvSpPr/>
          <p:nvPr/>
        </p:nvSpPr>
        <p:spPr>
          <a:xfrm>
            <a:off x="2362320" y="2890800"/>
            <a:ext cx="91440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Concentra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Inhibit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Minim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oneTexte 9"/>
          <p:cNvSpPr/>
          <p:nvPr/>
        </p:nvSpPr>
        <p:spPr>
          <a:xfrm>
            <a:off x="380880" y="2666880"/>
            <a:ext cx="190512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Tubes avec milieu de culture, bactéries, et des quantité croissante d’antibiot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oneTexte 10"/>
          <p:cNvSpPr/>
          <p:nvPr/>
        </p:nvSpPr>
        <p:spPr>
          <a:xfrm>
            <a:off x="5791320" y="3657600"/>
            <a:ext cx="2057400" cy="215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Sensi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e bactérie est dite sensible à un antibiotique si la pousse est inhibée par une concentration qui est </a:t>
            </a:r>
            <a:r>
              <a:rPr b="0" lang="fr-FR" sz="900" spc="-1" strike="noStrike">
                <a:solidFill>
                  <a:srgbClr val="ff6600"/>
                </a:solidFill>
                <a:latin typeface="Verdana"/>
              </a:rPr>
              <a:t>FACILEMENT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et en toute </a:t>
            </a:r>
            <a:r>
              <a:rPr b="0" lang="fr-FR" sz="900" spc="-1" strike="noStrike">
                <a:solidFill>
                  <a:srgbClr val="ff6600"/>
                </a:solidFill>
                <a:latin typeface="Verdana"/>
              </a:rPr>
              <a:t>SECURITE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obtenue dans la circulation sanguine du pati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e réponse clinique positive pour le patient est anticipé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Résista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L’opposé de sensibl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oneTexte 11"/>
          <p:cNvSpPr/>
          <p:nvPr/>
        </p:nvSpPr>
        <p:spPr>
          <a:xfrm>
            <a:off x="685800" y="3429000"/>
            <a:ext cx="129528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Boîte d’agar avec un tapis de pousse bactérien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12"/>
          <p:cNvSpPr/>
          <p:nvPr/>
        </p:nvSpPr>
        <p:spPr>
          <a:xfrm>
            <a:off x="2514600" y="4648320"/>
            <a:ext cx="106668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Zone d’inhibition de la pousse bactérien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13"/>
          <p:cNvSpPr/>
          <p:nvPr/>
        </p:nvSpPr>
        <p:spPr>
          <a:xfrm>
            <a:off x="1600200" y="5024520"/>
            <a:ext cx="91440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Disque imprégné d’antibiot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oneTexte 14"/>
          <p:cNvSpPr/>
          <p:nvPr/>
        </p:nvSpPr>
        <p:spPr>
          <a:xfrm>
            <a:off x="2743200" y="5562720"/>
            <a:ext cx="53352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Taille de la zo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15"/>
          <p:cNvSpPr/>
          <p:nvPr/>
        </p:nvSpPr>
        <p:spPr>
          <a:xfrm rot="5400000">
            <a:off x="3169800" y="3823920"/>
            <a:ext cx="914400" cy="27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Taille de la zo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16"/>
          <p:cNvSpPr/>
          <p:nvPr/>
        </p:nvSpPr>
        <p:spPr>
          <a:xfrm>
            <a:off x="4191120" y="4540320"/>
            <a:ext cx="457200" cy="18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CI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17"/>
          <p:cNvSpPr/>
          <p:nvPr/>
        </p:nvSpPr>
        <p:spPr>
          <a:xfrm>
            <a:off x="4267080" y="3581280"/>
            <a:ext cx="137160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Note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En mesurant la taille de la zone, on peut calculer la CIM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Plus la zone est petite, plus la CIM est élevé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18"/>
          <p:cNvSpPr/>
          <p:nvPr/>
        </p:nvSpPr>
        <p:spPr>
          <a:xfrm>
            <a:off x="3276720" y="2666880"/>
            <a:ext cx="1523880" cy="45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Dilution de milieu de cul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Test de suscepti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19"/>
          <p:cNvSpPr/>
          <p:nvPr/>
        </p:nvSpPr>
        <p:spPr>
          <a:xfrm>
            <a:off x="3809880" y="5486400"/>
            <a:ext cx="152424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Diffusion de dis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Test de suscepti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3323-C4FD-40B1-AA10-AE6C591A5D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A7EF-8098-4078-99B3-EDB3B9C3BF6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6" name="Text Box 3"/>
          <p:cNvSpPr/>
          <p:nvPr/>
        </p:nvSpPr>
        <p:spPr>
          <a:xfrm>
            <a:off x="304920" y="1295280"/>
            <a:ext cx="8076960" cy="21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linical and Laboratory Standards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ociété française de microbi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48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0" name="Text Box 8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éfé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3F16-901D-4F6F-8E54-7BA547499A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Exemple d’un extrait de référence :</a:t>
            </a:r>
            <a:br>
              <a:rPr sz="28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élection du médicament à tes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45B7-47B4-487B-BBB9-38D013A6EC6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719C-9830-456E-B11D-00F27A64EE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AE35-A0BB-498A-B618-C7B6A527EE5B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d des erreurs surviennent dans le test de susceptibilit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ilieu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ntibiotiqu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équipement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terpré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B9F0-DB95-4514-BBDF-822D2E55CE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7929-3AA1-4381-A6CE-74E147A4354E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 d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ilieu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      Mueller Hinto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4 mm épaisseur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sque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ock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tibiotique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mpératur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fr-FR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 mi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fr-FR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ubateur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mpératur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fr-FR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7B6B-7438-4C19-82EE-645B9E3ED5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8F20-B77F-4E1E-B97D-C496BBA0D901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uches de coll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85800" y="388620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souches de CQ doivent provenir d‘organisations réputé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des souches spécifiques pour tester différentes combinaisons de médic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4:00:58Z</dcterms:created>
  <dc:creator>Robin Barteluk</dc:creator>
  <dc:description/>
  <dc:language>en-US</dc:language>
  <cp:lastModifiedBy>dolmazonv</cp:lastModifiedBy>
  <dcterms:modified xsi:type="dcterms:W3CDTF">2010-04-08T14:40:14Z</dcterms:modified>
  <cp:revision>17</cp:revision>
  <dc:subject/>
  <dc:title>Microbiology QC</dc:title>
</cp:coreProperties>
</file>